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6.wmf" ContentType="image/x-wmf"/>
  <Override PartName="/ppt/media/image23.png" ContentType="image/png"/>
  <Override PartName="/ppt/media/image22.wmf" ContentType="image/x-wmf"/>
  <Override PartName="/ppt/media/image20.jpeg" ContentType="image/jpeg"/>
  <Override PartName="/ppt/media/image21.png" ContentType="image/png"/>
  <Override PartName="/ppt/media/image19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9.png" ContentType="image/png"/>
  <Override PartName="/ppt/media/image11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31.wmf" ContentType="image/x-wmf"/>
  <Override PartName="/ppt/media/image3.png" ContentType="image/png"/>
  <Override PartName="/ppt/media/image33.png" ContentType="image/png"/>
  <Override PartName="/ppt/media/image8.png" ContentType="image/png"/>
  <Override PartName="/ppt/media/image32.wmf" ContentType="image/x-wmf"/>
  <Override PartName="/ppt/media/image12.wmf" ContentType="image/x-wmf"/>
  <Override PartName="/ppt/media/image13.png" ContentType="image/png"/>
  <Override PartName="/ppt/media/image36.wmf" ContentType="image/x-wmf"/>
  <Override PartName="/ppt/media/image38.wmf" ContentType="image/x-wmf"/>
  <Override PartName="/ppt/media/image40.wmf" ContentType="image/x-wmf"/>
  <Override PartName="/ppt/media/image39.wmf" ContentType="image/x-wmf"/>
  <Override PartName="/ppt/media/image7.wmf" ContentType="image/x-wmf"/>
  <Override PartName="/ppt/media/image37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15.png" ContentType="image/png"/>
  <Override PartName="/ppt/media/image14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2.png" ContentType="image/png"/>
  <Override PartName="/ppt/media/image25.png" ContentType="image/png"/>
  <Override PartName="/ppt/media/image24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  <p:sldId id="283" r:id="rId48"/>
    <p:sldId id="284" r:id="rId49"/>
    <p:sldId id="285" r:id="rId50"/>
    <p:sldId id="286" r:id="rId51"/>
    <p:sldId id="287" r:id="rId52"/>
    <p:sldId id="288" r:id="rId53"/>
    <p:sldId id="289" r:id="rId54"/>
    <p:sldId id="290" r:id="rId55"/>
    <p:sldId id="291" r:id="rId56"/>
    <p:sldId id="292" r:id="rId57"/>
    <p:sldId id="293" r:id="rId58"/>
    <p:sldId id="294" r:id="rId59"/>
    <p:sldId id="295" r:id="rId60"/>
    <p:sldId id="296" r:id="rId61"/>
    <p:sldId id="297" r:id="rId62"/>
    <p:sldId id="298" r:id="rId63"/>
    <p:sldId id="299" r:id="rId64"/>
    <p:sldId id="300" r:id="rId65"/>
    <p:sldId id="301" r:id="rId66"/>
    <p:sldId id="302" r:id="rId67"/>
    <p:sldId id="303" r:id="rId68"/>
    <p:sldId id="304" r:id="rId69"/>
    <p:sldId id="305" r:id="rId70"/>
    <p:sldId id="306" r:id="rId71"/>
    <p:sldId id="307" r:id="rId72"/>
    <p:sldId id="308" r:id="rId73"/>
    <p:sldId id="309" r:id="rId74"/>
    <p:sldId id="310" r:id="rId75"/>
    <p:sldId id="311" r:id="rId76"/>
    <p:sldId id="312" r:id="rId77"/>
    <p:sldId id="313" r:id="rId78"/>
  </p:sldIdLst>
  <p:sldSz cx="9902825" cy="6858000"/>
  <p:notesSz cx="6792913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slide" Target="slides/slide28.xml"/><Relationship Id="rId49" Type="http://schemas.openxmlformats.org/officeDocument/2006/relationships/slide" Target="slides/slide29.xml"/><Relationship Id="rId50" Type="http://schemas.openxmlformats.org/officeDocument/2006/relationships/slide" Target="slides/slide30.xml"/><Relationship Id="rId51" Type="http://schemas.openxmlformats.org/officeDocument/2006/relationships/slide" Target="slides/slide31.xml"/><Relationship Id="rId52" Type="http://schemas.openxmlformats.org/officeDocument/2006/relationships/slide" Target="slides/slide32.xml"/><Relationship Id="rId53" Type="http://schemas.openxmlformats.org/officeDocument/2006/relationships/slide" Target="slides/slide33.xml"/><Relationship Id="rId54" Type="http://schemas.openxmlformats.org/officeDocument/2006/relationships/slide" Target="slides/slide34.xml"/><Relationship Id="rId55" Type="http://schemas.openxmlformats.org/officeDocument/2006/relationships/slide" Target="slides/slide35.xml"/><Relationship Id="rId56" Type="http://schemas.openxmlformats.org/officeDocument/2006/relationships/slide" Target="slides/slide36.xml"/><Relationship Id="rId57" Type="http://schemas.openxmlformats.org/officeDocument/2006/relationships/slide" Target="slides/slide37.xml"/><Relationship Id="rId58" Type="http://schemas.openxmlformats.org/officeDocument/2006/relationships/slide" Target="slides/slide38.xml"/><Relationship Id="rId59" Type="http://schemas.openxmlformats.org/officeDocument/2006/relationships/slide" Target="slides/slide39.xml"/><Relationship Id="rId60" Type="http://schemas.openxmlformats.org/officeDocument/2006/relationships/slide" Target="slides/slide40.xml"/><Relationship Id="rId61" Type="http://schemas.openxmlformats.org/officeDocument/2006/relationships/slide" Target="slides/slide41.xml"/><Relationship Id="rId62" Type="http://schemas.openxmlformats.org/officeDocument/2006/relationships/slide" Target="slides/slide42.xml"/><Relationship Id="rId63" Type="http://schemas.openxmlformats.org/officeDocument/2006/relationships/slide" Target="slides/slide43.xml"/><Relationship Id="rId64" Type="http://schemas.openxmlformats.org/officeDocument/2006/relationships/slide" Target="slides/slide44.xml"/><Relationship Id="rId65" Type="http://schemas.openxmlformats.org/officeDocument/2006/relationships/slide" Target="slides/slide45.xml"/><Relationship Id="rId66" Type="http://schemas.openxmlformats.org/officeDocument/2006/relationships/slide" Target="slides/slide46.xml"/><Relationship Id="rId67" Type="http://schemas.openxmlformats.org/officeDocument/2006/relationships/slide" Target="slides/slide47.xml"/><Relationship Id="rId68" Type="http://schemas.openxmlformats.org/officeDocument/2006/relationships/slide" Target="slides/slide48.xml"/><Relationship Id="rId69" Type="http://schemas.openxmlformats.org/officeDocument/2006/relationships/slide" Target="slides/slide49.xml"/><Relationship Id="rId70" Type="http://schemas.openxmlformats.org/officeDocument/2006/relationships/slide" Target="slides/slide50.xml"/><Relationship Id="rId71" Type="http://schemas.openxmlformats.org/officeDocument/2006/relationships/slide" Target="slides/slide51.xml"/><Relationship Id="rId72" Type="http://schemas.openxmlformats.org/officeDocument/2006/relationships/slide" Target="slides/slide52.xml"/><Relationship Id="rId73" Type="http://schemas.openxmlformats.org/officeDocument/2006/relationships/slide" Target="slides/slide53.xml"/><Relationship Id="rId74" Type="http://schemas.openxmlformats.org/officeDocument/2006/relationships/slide" Target="slides/slide54.xml"/><Relationship Id="rId75" Type="http://schemas.openxmlformats.org/officeDocument/2006/relationships/slide" Target="slides/slide55.xml"/><Relationship Id="rId76" Type="http://schemas.openxmlformats.org/officeDocument/2006/relationships/slide" Target="slides/slide56.xml"/><Relationship Id="rId77" Type="http://schemas.openxmlformats.org/officeDocument/2006/relationships/slide" Target="slides/slide57.xml"/><Relationship Id="rId78" Type="http://schemas.openxmlformats.org/officeDocument/2006/relationships/slide" Target="slides/slide58.xml"/><Relationship Id="rId7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"/>
          <p:cNvSpPr/>
          <p:nvPr/>
        </p:nvSpPr>
        <p:spPr>
          <a:xfrm>
            <a:off x="0" y="0"/>
            <a:ext cx="67932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dt" idx="55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PlaceHolder 5"/>
          <p:cNvSpPr>
            <a:spLocks noGrp="1"/>
          </p:cNvSpPr>
          <p:nvPr>
            <p:ph type="ftr" idx="56"/>
          </p:nvPr>
        </p:nvSpPr>
        <p:spPr>
          <a:xfrm>
            <a:off x="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6"/>
          <p:cNvSpPr>
            <a:spLocks noGrp="1"/>
          </p:cNvSpPr>
          <p:nvPr>
            <p:ph type="sldNum" idx="57"/>
          </p:nvPr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FCB09FB-676A-46A7-A0BF-1B8ECAFDB9D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Slide Number Placeholder 3"/>
          <p:cNvSpPr/>
          <p:nvPr/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E57D5A8-D567-4ECE-AF23-B9736B30198A}" type="slidenum">
              <a:rPr b="0" lang="en-GB" sz="1200" spc="-1" strike="noStrike">
                <a:solidFill>
                  <a:srgbClr val="8f210b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574D-24EF-41A3-9388-F881032F2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FC9E-59CA-4EDB-82B7-F77EBEAE0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8C0A92-DF18-496C-B6BC-78DB4A104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4B4510-C881-4221-99A7-5C88F06DF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16ECEA-2AED-4423-A98F-99B1EEACB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B9026A-D84E-44DE-9E71-7767EEFB8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E1A2F8-9377-41EA-A291-0327EB943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AE1498-1DBC-4F41-8D88-3AE340BBE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5929B3-DC40-4A92-8BCD-C347926E8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494740-EF6D-4274-9C33-0518F7EED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BAAB9F-13BB-4464-A6FD-C578224B3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2D4ED8-9FF9-43AB-825E-188D9A541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6ADF-D36F-4B9C-BCE6-BFD4F467E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C2545C-907F-46A5-B316-6DFE3C015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DDC18D-193C-454D-8094-2EE047ECC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BA3380-0CC4-4BE0-B0AD-CA63EB87D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7AA7F8-B990-4CF0-ACB3-4FDE3033A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5DEDF3-7840-4751-94CC-F9318E622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D04E62-6A3A-44D6-9E81-FE614A8DE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1A7E22-5D65-4AB8-8A4B-5CBE59402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468CBB-859A-4663-A234-17288808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304D7C-22FF-4748-AB96-322FFC8AC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71B254-BC4A-47DD-8C59-8BD8FF6CA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DB96-29BB-4097-BAC5-F520F59EA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CD0AD3-23B1-4353-92F2-4331796D4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783280-A463-4176-B8EF-C7976ADF5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09924D-D865-4950-8249-95AC10A4B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3DB751-6071-4004-A30D-A2077F3AC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8BC0A0-D47E-4EF8-92DA-6AEA6B701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72A3FE-5FD9-4512-AD04-B2FB4119F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910524-771E-43C7-8197-65F133FDC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08DAFD-E9D2-4B8C-B406-980E3C0D1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A0402A-F61D-4CA9-A925-EB03FA3E9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A1C70F-ECCE-4F29-BFBD-24BDBB4E9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23DB9-2557-485C-A316-5CBAD8380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37F70F-4BB2-4C1E-981C-FF13CF1D9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F9997B-2FC5-45E6-94B8-9D596BC82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4DCE68-536D-451E-8CD8-6764C3198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DFA366-F82C-4E8F-B021-0ADEB8892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08112B-6B68-477A-BE89-382AEB724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15FC05-717C-4233-86C7-AED6EB56E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7D257D-D656-4199-915D-A3752AB2D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3F878A-68C5-4E0E-B43D-035CA7EC5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F69945-4D5B-4964-9E6F-F2C1E65FF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E58208-EA68-457F-8572-3625E87B9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BC03A-B7A6-44D5-8E25-B4B24809B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B762F2-E062-4532-B816-2E1DE4BAF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963DBA-A68E-4D6B-BCE8-18099869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72C35A-37DE-4FE0-AB55-CC944ED1C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7EEC39-F7E0-4A54-84CF-FF373CE1D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4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5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2A5570-11F0-4638-8A3B-910332F7D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C310E1-3D0C-4A66-AA58-8BCA95F5E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7E0FFB-FC2E-49D6-AB56-6EA9EBBCB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6AD1D6-54F7-4F22-9975-F125E971C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2447CD-8A46-482B-B951-52AEF9F14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BC989B-7258-4074-AEED-11DC1F101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C0B74-A4C6-4D7E-9B91-8824060C9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828884-5937-4D03-B0CA-2C4620C9A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B217A4-4B9E-4ADC-88A9-E02F1196A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F7DDB2-3B22-483D-BEE8-21EBC83D0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2919EB-F956-4000-A9A6-7571700CD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4390BF-7C2B-431E-AA9D-DB4685BBC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116B4E-DBFC-4241-97D5-998E3EC2D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2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3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D2DD30-AD9A-4FDD-95C3-5F70E73DF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3A6762-C0A7-462A-9728-4624AE9BC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3A8852-CFB0-4C72-872A-93D3679B7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42C446-2458-4935-9A04-0516CA09E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48793-F805-4B4A-A610-24FFB8034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2DE48C-B76E-4556-82C7-4DB7490D8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625A6C-D2F6-44C7-9E14-345D8DF8F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BEE3B8-903B-4B42-A41E-25C7B3170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6AADED-BB32-423D-850B-28D2E8D40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C7556E-2EEF-4B7E-9855-4006E0057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5AEECA-F527-4FCB-A568-B0295F71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EC739E-890A-43E8-8084-D7719B7EF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1CCD2B-5401-444B-B724-BA82000A2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10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11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F869BA-0D5D-4429-8053-30B31282C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921B41-5E80-4FAE-B4B4-6F4D125B0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2EDCE-CD29-41C5-A4D6-431026ACE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576818-4D1F-4108-B238-65D3978F6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9AA3EF-8CF4-47F4-AFAD-EF60AA23C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8F47CA-B369-49C9-99DF-4CF6AAD8B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642AFC-6273-422E-B1EF-68FE17D00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9853B7-D72B-4A79-AF60-9C02A81EC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6F12BA-27FE-4CC8-9466-EDEB1B19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C8BD2A-4BB8-4191-B1DF-CD3FF931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58D2E4-D39B-4D84-A9D9-B8DC31909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5A45CD-CCA3-4FED-A146-472109A86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F4D026-8EA1-4F36-8D37-E73FAB845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21E02-EF13-473E-8643-FE0A5D5D2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0C3CAA-3EA9-47F7-8217-CA66D7A8A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EC7E81-A44E-4EF3-8AC4-1383DB84A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F35850-EA90-4FA4-8903-2ACE5A876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567E0C-D783-471C-830A-664ED3D42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D1C4B1-1B90-420F-B1B3-1132CDC5C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E0E98C-C1A4-4A75-9038-AEDC205FD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CA4453-A0FB-4B39-BB11-05E548CDE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61C798-DEAE-4930-A9EE-8BB8E6AEF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B23B75-B063-47BE-A0FA-92A1763B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0BDB7E-97C3-407A-8168-84DA32DC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BED0B-1397-4290-A39D-EFDB84E5E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253455-F973-4892-9625-5AE3E273B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571674-4DAE-4D1A-93C7-10E25E825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601985-5531-419C-9F37-8C09AE7D2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A7F0BE-B730-4FE7-8A88-F07CB901C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36CC59-241D-4470-BEC1-C31D4F72F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249122-DF3E-407C-89FE-91DDB8E7A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1ED6B8-4020-4E4F-8CA9-2EE6B6D5C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BA4185-7EF9-4E83-A12B-1C4909472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4904D8-72E8-4E78-88E9-9C09C960E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3A6C01-019C-4E86-8238-65E7F078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B3BA-12AD-4FCF-A022-91D45DE29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BEC61-546D-47EC-8B12-6822E37F8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461752-B119-4CA4-ABA4-4ED2A2C4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ADCF24-D420-4AD3-98BA-7A6165A2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3618DC-10CC-4AA5-92F6-7642C55F0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635483-25DC-4DAA-AF1F-76D29542D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17846A-B6D5-4465-BBD2-6A5DC8C67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FF0706-5C84-41AE-911A-43748E861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9EB957-C65D-41C0-B7A6-754850CA3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EEDAB4-9DD7-44FC-A603-BE22E0F00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0EA422-EFA5-42BE-B3A6-F1998A54E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E878C1-EA19-4CA4-AAF9-0F02CE82D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4226E-A384-4C74-A077-3ED1F9752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CA1B4D-3708-4DC7-A147-541909E75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6A67EC-F414-483A-B33D-9CFA9ED12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0C14BC-328D-4C2F-9B31-963C76F4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E3A89E-96B2-4351-82B1-044D7D01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6E1899-DFA1-4E8E-A377-6486C0D77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8C7AA0-84EE-44F0-B876-9F351ED89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2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3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CA8C73-0556-4142-909E-C0AEBE5D3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402D1-5391-487B-A19C-1A87B3CD9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72672-F61E-4527-8647-52DB6CEA0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F6926-AF81-4A98-B923-5C1DBB7B7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9FC84-6B9F-4D8F-9633-A918E88F8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26D03-0AEA-4E8D-AD11-4204DD3A8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2B9CC-666D-450F-B435-0CC0BE94E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A5C94-E20B-463E-866E-422B47689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09FB3-795C-42E3-8D18-C95CCDCBB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9C27-F282-47D7-BA9D-9893A9378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B094B-17A6-4EE1-B0C1-19151A755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B54F3-9518-4BE8-8D33-BAE92CDA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8E028-A6FC-4AEC-8E44-0C7DF8EC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A5F17-4B24-4AEF-B15C-6B4873B6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DEA20-C41B-46B1-9E6F-79B12BD1D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D6B9F-04C5-4831-98E2-DF6314E17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03A28-89D3-47BE-BA89-97FFFE03F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B4CE5-1C93-4746-8355-45C7784AB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6178A-404A-42E7-803F-D7691A750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0CA08-42E9-435F-805E-CAB397735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9BE7-A180-4EFD-917D-22F3B28DA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B77D0-7C52-435E-B9BB-13D26B315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833A4-6B2C-486C-914C-AD9B7F8FE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A6E60-0E09-473C-953C-F65D12EC4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6753B-296D-4219-8728-23F49508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D34B3-6CCE-41D4-94E5-AA46B151E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8ED9B-29E5-4AF8-8EED-206CFE0D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84B29-4762-4656-BE75-7DBDEB8B6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33B3D-5276-4843-B8CA-48A100CB6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F8594-6A10-4BC6-AA58-E1369B3BC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C60DE6-E063-4BEE-AB47-E18BDA7A1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3491-2EC2-4944-82FB-37CA4FC2A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32123-2075-4BBE-AD45-EE3CCAF6E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E2132A-6EB4-496B-8E97-303E0EF65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4F0DDD-A378-44AF-B94F-BDACEEE0B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DAF1C3-FFDF-47A8-B819-841F0F510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E37026-C0B9-4E27-9C10-53C2F8C5C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7418DB-3848-4127-B480-AB176B65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0BA16-DD5E-4671-9227-34E61EF92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488B2D-4580-4283-ACCD-C258DC40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D65F9-07B0-4925-A41F-1A042BAC8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3DEF0-FAC5-4521-89E8-D795C8977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87CA-52A8-4F14-A3B2-C2CF21555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50FDDE-EA86-4EE9-AC1E-69B8F16FB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D749C4-15AE-406F-B315-EE9B1F9D3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C48EDC-17F4-469B-9955-D35FAEE07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836EDF-3B6E-4374-BE4F-7C93F3668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782D25-0E23-4EFE-9E4E-5446354BA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D70CAA-F4C6-4FE0-B385-AFD4520FE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0CEE77-3B5B-4BE5-AB76-A76D59E83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22737C-4B17-400D-86A3-D330ED297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A6D686-A24F-4B27-AF07-5C064AC9C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07335D-E984-443B-BB95-5C25EEFF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8BE3-035B-42B0-8C2D-0C76F809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3416E8-647C-4E08-BB04-88E02C16C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E7AA27-FFF8-4897-A33D-B9559CB1F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90C64E-A8C9-4102-90AF-8A284DFAC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83343F-D638-4222-AAAF-59B938B98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5B9D06-D187-4483-8CC8-FF0EEF8AB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66069C-BB9D-4BC0-86EB-2B0B54B18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1F87A8-3A62-4BF5-B48A-77969C783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3EECAD-E7B4-47CA-BB5B-049FECA39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7E0C56-1BC6-428B-A82A-DD3992E57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150057-E755-4DFB-881C-4649F59B3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2286-9E0B-4C39-8E05-2CEDE4FC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5BCF7A-9158-43F9-B533-8662E540C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02DA21-271C-45FD-BCB1-CA6BEF569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08DB0B-A8F0-4721-85E6-9C80CB7C0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8A4DDA-8116-4442-A507-849D72B76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372B07-57E2-4247-8317-EDA1D2CB8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FC25D4-F3B0-4814-AA02-EB799D9B2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2FADCC-8F64-43C4-A561-AC6D79D33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8D0F3B-DB5B-426E-A06A-DDB72F89D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399368-7267-4F36-B629-07E5F859C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B43B1B-3452-4938-8753-E39A4CB3F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18F3-394D-44F0-84C5-A9080E00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2A0E9E-2400-494B-BF7B-C49E814DE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DDC41C-8602-432C-B206-12DB6529C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3D63C2-C862-4705-9227-B8EEED36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332A2F-97F3-4EA8-B870-D3C21DC82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AC66E6-3E24-499C-AEDF-C2E95CB61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E4552F-92A1-455D-A5BE-35C25AFF3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27465B-4572-48DE-8812-1F55EDFDC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DF19F4-9DB6-455D-8628-4836505E2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79AA5A-C3C0-40C5-848B-C097E21EC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B56F7E-1415-44DC-80BA-7BA859F38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rd November 201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1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23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4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5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6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7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8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9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0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1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2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3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4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5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6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7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38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28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rd November 201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29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30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203AB-FB14-4544-8262-9391348D14A0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0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81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2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3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4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5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6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7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8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9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0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1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2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3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4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5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96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 type="dt" idx="3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rd November 201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 type="ftr" idx="3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 type="sldNum" idx="3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7C1E2-0853-4C75-8230-ED90EA135480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3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654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 type="dt" idx="3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rd November 201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 type="ftr" idx="3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 type="sldNum" idx="36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0A246-D441-4F8D-AE01-B26D1C0479B0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97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8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9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0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1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2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3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4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5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6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7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8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9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10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11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12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 type="dt" idx="37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rd November 201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 type="ftr" idx="38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 type="sldNum" idx="39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0AFA1-DFA5-4DD5-83C4-3E9C457CCF90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4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755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6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7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8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9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0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1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2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3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4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5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6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7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8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9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70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 type="dt" idx="4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rd November 201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 type="ftr" idx="4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 type="sldNum" idx="4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0AE90-5F1B-4AF2-AB6A-49551A5513D0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2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13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4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5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6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7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8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9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0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1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2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3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4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5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6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7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28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4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rd November 201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4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4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68D87-908C-4E82-9BB5-7252457709C3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71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2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3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4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5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6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7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8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9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0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1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2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3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4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5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86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 type="dt" idx="4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rd November 201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 type="ftr" idx="4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 type="sldNum" idx="4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199EF-0C6E-450B-86BB-ED43A878F21F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2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944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4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rd November 201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5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520AC-6F05-4FC6-B70F-BF5F56575624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6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87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8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9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0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1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2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3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4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5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6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7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8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9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000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001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002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 type="dt" idx="52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Times New Roman"/>
              </a:rPr>
              <a:t>3rd November 201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 type="ftr" idx="53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 type="sldNum" idx="54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FD9C5-E181-4057-9F44-783B76546155}" type="slidenum">
              <a:rPr b="0" lang="en-GB" sz="1000" spc="-1" strike="noStrike">
                <a:solidFill>
                  <a:srgbClr val="8f210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4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rd November 201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F259C-CD3B-448D-9AA1-5AED59501864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17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8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9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0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2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3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4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5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6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7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8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9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0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1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32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7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rd November 201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8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9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8C1BA-7779-4794-8519-35593113A9C4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75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6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7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8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9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0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1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2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3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4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5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6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7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8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9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90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rd November 201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F15FA-3D90-440E-9144-B6C94424A2F9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33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4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5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6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7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8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9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0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1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2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3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4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5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6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7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48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rd November 201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FFA11-A0A2-4D96-A674-221E874898DA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91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2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3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4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5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6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7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8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9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0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1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2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3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4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5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06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1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rd November 201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1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1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CA462-B880-4035-9B74-171AB5361D07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34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64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rd November 201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C2598-91DD-4AA0-86DA-41E958CE6C58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07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8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0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1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2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3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4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5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6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7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8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9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20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21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22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2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rd November 201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3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24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1F95F-FA2C-4A8A-B5EA-1979AF0D28B6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65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6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7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8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9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0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1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2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3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4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5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6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7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8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9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80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25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rd November 201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26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27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C1887-F4AB-41D7-B35C-CFCA53F9C695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8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9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9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9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9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9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9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9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9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4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BinomialConfidence" TargetMode="External"/><Relationship Id="rId2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kappa" TargetMode="External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4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4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9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9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4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75E60-0025-4174-918B-1C45BA39E9B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990720" y="2438280"/>
            <a:ext cx="841680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</a:t>
            </a: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 </a:t>
            </a:r>
            <a:br>
              <a:rPr sz="3600"/>
            </a:br>
            <a:r>
              <a:rPr b="0" lang="en-GB" sz="3600" spc="-1" strike="noStrike">
                <a:solidFill>
                  <a:srgbClr val="8f210b"/>
                </a:solidFill>
                <a:latin typeface="Albertus Medium"/>
              </a:rPr>
              <a:t>Graduate Statistics Course 2016</a:t>
            </a:r>
            <a:br>
              <a:rPr sz="3600"/>
            </a:br>
            <a:r>
              <a:rPr b="0" lang="en-US" sz="1800" spc="-1" strike="noStrike">
                <a:solidFill>
                  <a:srgbClr val="515f7b"/>
                </a:solidFill>
                <a:latin typeface="Verdana"/>
              </a:rPr>
              <a:t>http://imaging.mrc-cbu.cam.ac.uk/statswiki/StatsCourse2016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BCAF3-4132-4443-89E7-A37E074A587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s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bservations are classified according to some sche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numbers of observations falling into each category of the classification are called the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9873B-685C-428F-BEFF-39788BB753D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isual Field Deficit Problems in Hemiplegic Patien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05" name="Picture 4" descr=""/>
          <p:cNvPicPr/>
          <p:nvPr/>
        </p:nvPicPr>
        <p:blipFill>
          <a:blip r:embed="rId1"/>
          <a:stretch/>
        </p:blipFill>
        <p:spPr>
          <a:xfrm>
            <a:off x="3943440" y="1844640"/>
            <a:ext cx="343692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7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8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2D14D-5E15-42A9-9699-27BF4A4A7E0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10" name="Line 10"/>
          <p:cNvSpPr/>
          <p:nvPr/>
        </p:nvSpPr>
        <p:spPr>
          <a:xfrm flipH="1" flipV="1">
            <a:off x="6436800" y="2895120"/>
            <a:ext cx="908280" cy="762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95360" y="2133720"/>
            <a:ext cx="536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ut the variable that holds the category information into the Variables(s) bo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ess OK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12" name="Picture 14" descr=""/>
          <p:cNvPicPr/>
          <p:nvPr/>
        </p:nvPicPr>
        <p:blipFill>
          <a:blip r:embed="rId1"/>
          <a:stretch/>
        </p:blipFill>
        <p:spPr>
          <a:xfrm>
            <a:off x="5611680" y="2362320"/>
            <a:ext cx="412596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7723A-F1E7-4D79-A40D-CBFF0CAA13E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17" name="Picture 4" descr=""/>
          <p:cNvPicPr/>
          <p:nvPr/>
        </p:nvPicPr>
        <p:blipFill>
          <a:blip r:embed="rId1"/>
          <a:stretch/>
        </p:blipFill>
        <p:spPr>
          <a:xfrm>
            <a:off x="1155600" y="1981080"/>
            <a:ext cx="8417160" cy="23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D13EA-7355-4D98-B42D-33A7E2036D1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Bar ch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ing ‘Bar Chart’ from the ‘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arts’ options gives you a graphic which you can cut and past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23" name="Picture 10" descr=""/>
          <p:cNvPicPr/>
          <p:nvPr/>
        </p:nvPicPr>
        <p:blipFill>
          <a:blip r:embed="rId1"/>
          <a:stretch/>
        </p:blipFill>
        <p:spPr>
          <a:xfrm>
            <a:off x="5199120" y="2057400"/>
            <a:ext cx="412596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1B1B1-D94D-4E8E-A573-2A6A31D86A2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tingency Table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	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329760" y="2017800"/>
            <a:ext cx="507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tems are classified by two or more classifications simultaneous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.g.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ide of Damag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and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everity of Visual Field Defici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rosstab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Side of Damage’ and ‘Visual Field Deficit’ to define the row/column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29" name="Picture 4" descr=""/>
          <p:cNvPicPr/>
          <p:nvPr/>
        </p:nvPicPr>
        <p:blipFill>
          <a:blip r:embed="rId1"/>
          <a:stretch/>
        </p:blipFill>
        <p:spPr>
          <a:xfrm>
            <a:off x="5599080" y="2205000"/>
            <a:ext cx="412596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8BEEF-45E8-4FC1-A18E-1661B4DE0EE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4" name="Picture 4" descr=""/>
          <p:cNvPicPr/>
          <p:nvPr/>
        </p:nvPicPr>
        <p:blipFill>
          <a:blip r:embed="rId1"/>
          <a:stretch/>
        </p:blipFill>
        <p:spPr>
          <a:xfrm>
            <a:off x="1155600" y="2286000"/>
            <a:ext cx="8417160" cy="2262240"/>
          </a:xfrm>
          <a:prstGeom prst="rect">
            <a:avLst/>
          </a:prstGeom>
          <a:ln w="0">
            <a:noFill/>
          </a:ln>
        </p:spPr>
      </p:pic>
      <p:sp>
        <p:nvSpPr>
          <p:cNvPr id="1135" name="Text Box 6"/>
          <p:cNvSpPr/>
          <p:nvPr/>
        </p:nvSpPr>
        <p:spPr>
          <a:xfrm>
            <a:off x="1238400" y="4876920"/>
            <a:ext cx="79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looks as if there may be more VFD in RBD than in LB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7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8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4ACB8-46FF-4F8F-A8D6-54A6663CF27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nalysing a frequency table directly from the 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40" name="Picture 3" descr=""/>
          <p:cNvPicPr/>
          <p:nvPr/>
        </p:nvPicPr>
        <p:blipFill>
          <a:blip r:embed="rId1"/>
          <a:stretch/>
        </p:blipFill>
        <p:spPr>
          <a:xfrm>
            <a:off x="4951440" y="1981080"/>
            <a:ext cx="4125960" cy="4114800"/>
          </a:xfrm>
          <a:prstGeom prst="rect">
            <a:avLst/>
          </a:prstGeom>
          <a:ln w="0">
            <a:noFill/>
          </a:ln>
        </p:spPr>
      </p:pic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577440" y="2133360"/>
            <a:ext cx="41259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Sometimes the observations have already been aggregated into frequenci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nter the frequencies for each cells of the table, identified by the levels of the classifying factors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.g. Lexical Decis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Type: {1 = Word , 2 = Nonword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Outcome: {1 = ‘Word’ , 2 = ‘Nonword’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y count for response ‘Word’ to Word items is 8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ies are stored in the variable called ‘freq’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B8366-5561-4E94-A56E-FDBE6553EE3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Weight Cases’ to analys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46" name="Picture 3" descr=""/>
          <p:cNvPicPr/>
          <p:nvPr/>
        </p:nvPicPr>
        <p:blipFill>
          <a:blip r:embed="rId1"/>
          <a:stretch/>
        </p:blipFill>
        <p:spPr>
          <a:xfrm>
            <a:off x="4621320" y="2057400"/>
            <a:ext cx="4125960" cy="1417680"/>
          </a:xfrm>
          <a:prstGeom prst="rect">
            <a:avLst/>
          </a:prstGeom>
          <a:ln w="0">
            <a:noFill/>
          </a:ln>
        </p:spPr>
      </p:pic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659880" y="2286000"/>
            <a:ext cx="4125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variable ‘freq’ contains the frequencie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DAF8A-4849-46D5-AF1C-948BC8CBFAB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Crosstabs’ to  generat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660240" y="2286000"/>
            <a:ext cx="4368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ross-classification by ‘typ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Stimulus = {Word, Non-word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d by ‘outcom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esponse = {‘Word’, Non-word’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53" name="Picture 6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29084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6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7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3E38D-5A6A-4D37-A8BC-EB3AD9568A1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4: Categorical Data Analysi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9" name="Text Box 1029"/>
          <p:cNvSpPr/>
          <p:nvPr/>
        </p:nvSpPr>
        <p:spPr>
          <a:xfrm>
            <a:off x="1320840" y="2362320"/>
            <a:ext cx="8169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f210b"/>
                </a:solidFill>
                <a:latin typeface="Albertus Medium"/>
              </a:rPr>
              <a:t>Categorical Data, Contingency Tables and the Pearson Chi-Squared Statistic</a:t>
            </a:r>
            <a:endParaRPr b="0" lang="en-US" sz="3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0" name="Text Box 1030"/>
          <p:cNvSpPr/>
          <p:nvPr/>
        </p:nvSpPr>
        <p:spPr>
          <a:xfrm>
            <a:off x="1486080" y="3505320"/>
            <a:ext cx="7839000" cy="27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05 November 2015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cd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67F8B-D946-4C8E-BB32-0B79201A1C7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mple use of SPSS 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58" name="Picture 3" descr=""/>
          <p:cNvPicPr/>
          <p:nvPr/>
        </p:nvPicPr>
        <p:blipFill>
          <a:blip r:embed="rId1"/>
          <a:stretch/>
        </p:blipFill>
        <p:spPr>
          <a:xfrm>
            <a:off x="5281560" y="2590920"/>
            <a:ext cx="3979800" cy="1463400"/>
          </a:xfrm>
          <a:prstGeom prst="rect">
            <a:avLst/>
          </a:prstGeom>
          <a:ln w="0">
            <a:noFill/>
          </a:ln>
        </p:spPr>
      </p:pic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577440" y="213372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ord recognition looks quite good (8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Non-word rejection is low (5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B03C3-305E-42FD-92E7-FBD8E96AB42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Goodness-of-Fit Chi-squared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ppose we have a Theor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.e. a ‘model’ that predicts the expected frequencies (E) in each categ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actually observe the frequencies (O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measure how good a fit the data are to the theory by the formula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= </a:t>
            </a:r>
            <a:r>
              <a:rPr b="0" lang="en-US" sz="3200" spc="-1" strike="noStrike">
                <a:solidFill>
                  <a:srgbClr val="8f210b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O-E)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/E where the sum is over all th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is called Pearson’s Chi-Squared Statist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6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7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60952-25F5-4BC4-8606-4CD2D11C5EE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ifica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arge values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uggest the model doesn’t fit the data wel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leads to Goodness-of-fit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look at the value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see whether it is unusually large by reference to a </a:t>
            </a:r>
            <a:r>
              <a:rPr b="0" lang="en-US" sz="36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38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-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istribution with k-1 degrees-of-freedom where k is the number of categories in the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5AF13-30B6-48BB-B882-72DDFEC28FC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Degrees of Freedom’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 elusive concept that occurs throughout statistics. In essence it means the number of independent pieces of information in a sample relevant to the estimation of some parameters or calculation of a statisti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or example in a two-by-two contingency table with a given set of marginal totals only 1 of the cells at a time is ‘free’ -- once it is specified all the others are determined -- and the table thus has a single degree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important point here is we can only interpret X</a:t>
            </a:r>
            <a:r>
              <a:rPr b="0" lang="en-US" sz="2000" spc="-1" strike="noStrike" baseline="4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f we also know its degrees of freedom, as we see later when we look at the chi-squared distribution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6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7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F9FE7-2AB0-43C9-8917-CFB69EB35EE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Degrees of Freedom = 1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79" name=""/>
          <p:cNvGraphicFramePr/>
          <p:nvPr/>
        </p:nvGraphicFramePr>
        <p:xfrm>
          <a:off x="1281240" y="2017800"/>
          <a:ext cx="8416800" cy="4114800"/>
        </p:xfrm>
        <a:graphic>
          <a:graphicData uri="http://schemas.openxmlformats.org/drawingml/2006/table">
            <a:tbl>
              <a:tblPr/>
              <a:tblGrid>
                <a:gridCol w="2805120"/>
                <a:gridCol w="2806560"/>
                <a:gridCol w="2805120"/>
              </a:tblGrid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3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-3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3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2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B6A87-5C5E-413F-90F2-EABE8A9BA5D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Degrees of Freedom = 4 (#rows-1) times (#cols -1)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84" name=""/>
          <p:cNvGraphicFramePr/>
          <p:nvPr/>
        </p:nvGraphicFramePr>
        <p:xfrm>
          <a:off x="487440" y="2017800"/>
          <a:ext cx="9210600" cy="4114800"/>
        </p:xfrm>
        <a:graphic>
          <a:graphicData uri="http://schemas.openxmlformats.org/drawingml/2006/table">
            <a:tbl>
              <a:tblPr/>
              <a:tblGrid>
                <a:gridCol w="2303280"/>
                <a:gridCol w="2301840"/>
                <a:gridCol w="2303640"/>
                <a:gridCol w="2301840"/>
              </a:tblGrid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-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u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2-x-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7-y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+y+u+v-9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3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2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2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11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3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D0571-A87F-49AE-AF4F-DFC3A4809D3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olman, Ritchie and Kalish (1946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41324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ce learning in ra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1190" name="Group 1062"/>
          <p:cNvGrpSpPr/>
          <p:nvPr/>
        </p:nvGrpSpPr>
        <p:grpSpPr>
          <a:xfrm>
            <a:off x="914400" y="2971800"/>
            <a:ext cx="3341880" cy="3263760"/>
            <a:chOff x="914400" y="2971800"/>
            <a:chExt cx="3341880" cy="3263760"/>
          </a:xfrm>
        </p:grpSpPr>
        <p:grpSp>
          <p:nvGrpSpPr>
            <p:cNvPr id="1191" name="Group 1058"/>
            <p:cNvGrpSpPr/>
            <p:nvPr/>
          </p:nvGrpSpPr>
          <p:grpSpPr>
            <a:xfrm>
              <a:off x="914400" y="2971800"/>
              <a:ext cx="3341880" cy="2819160"/>
              <a:chOff x="914400" y="2971800"/>
              <a:chExt cx="3341880" cy="2819160"/>
            </a:xfrm>
          </p:grpSpPr>
          <p:sp>
            <p:nvSpPr>
              <p:cNvPr id="1192" name="Oval 1033"/>
              <p:cNvSpPr/>
              <p:nvPr/>
            </p:nvSpPr>
            <p:spPr>
              <a:xfrm>
                <a:off x="914400" y="4267080"/>
                <a:ext cx="1447920" cy="1523880"/>
              </a:xfrm>
              <a:prstGeom prst="ellipse">
                <a:avLst/>
              </a:pr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3" name="AutoShape 1034"/>
              <p:cNvSpPr/>
              <p:nvPr/>
            </p:nvSpPr>
            <p:spPr>
              <a:xfrm>
                <a:off x="1524240" y="2971800"/>
                <a:ext cx="1904760" cy="1295280"/>
              </a:xfrm>
              <a:custGeom>
                <a:avLst/>
                <a:gdLst>
                  <a:gd name="textAreaLeft" fmla="*/ 1095120 w 1904760"/>
                  <a:gd name="textAreaRight" fmla="*/ 1841400 w 1904760"/>
                  <a:gd name="textAreaTop" fmla="*/ 290520 h 1295280"/>
                  <a:gd name="textAreaBottom" fmla="*/ 438120 h 129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8078" y="0"/>
                    </a:lnTo>
                    <a:lnTo>
                      <a:pt x="18078" y="4846"/>
                    </a:lnTo>
                    <a:lnTo>
                      <a:pt x="12427" y="4846"/>
                    </a:lnTo>
                    <a:cubicBezTo>
                      <a:pt x="5564" y="4846"/>
                      <a:pt x="0" y="8120"/>
                      <a:pt x="0" y="12158"/>
                    </a:cubicBezTo>
                    <a:lnTo>
                      <a:pt x="0" y="21600"/>
                    </a:lnTo>
                    <a:lnTo>
                      <a:pt x="2521" y="21600"/>
                    </a:lnTo>
                    <a:lnTo>
                      <a:pt x="2521" y="12158"/>
                    </a:lnTo>
                    <a:cubicBezTo>
                      <a:pt x="2521" y="9482"/>
                      <a:pt x="6956" y="7312"/>
                      <a:pt x="12427" y="7312"/>
                    </a:cubicBezTo>
                    <a:lnTo>
                      <a:pt x="18078" y="7312"/>
                    </a:lnTo>
                    <a:lnTo>
                      <a:pt x="18078" y="12158"/>
                    </a:lnTo>
                    <a:lnTo>
                      <a:pt x="21600" y="6079"/>
                    </a:lnTo>
                    <a:close/>
                  </a:path>
                </a:pathLst>
              </a:cu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4" name="Text Box 1035"/>
              <p:cNvSpPr/>
              <p:nvPr/>
            </p:nvSpPr>
            <p:spPr>
              <a:xfrm>
                <a:off x="3094560" y="3047760"/>
                <a:ext cx="1161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f210b"/>
                    </a:solidFill>
                    <a:latin typeface="Albertus Medium"/>
                  </a:rPr>
                  <a:t>Food</a:t>
                </a: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5" name="Text Box 1057"/>
              <p:cNvSpPr/>
              <p:nvPr/>
            </p:nvSpPr>
            <p:spPr>
              <a:xfrm>
                <a:off x="1467000" y="320040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A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</p:grpSp>
        <p:sp>
          <p:nvSpPr>
            <p:cNvPr id="1196" name="Text Box 1060"/>
            <p:cNvSpPr/>
            <p:nvPr/>
          </p:nvSpPr>
          <p:spPr>
            <a:xfrm>
              <a:off x="2142000" y="5715000"/>
              <a:ext cx="162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buClr>
                  <a:srgbClr val="a3ce82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f210b"/>
                  </a:solidFill>
                  <a:latin typeface="Albertus Medium"/>
                </a:rPr>
                <a:t>Phase 1</a:t>
              </a: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grpSp>
        <p:nvGrpSpPr>
          <p:cNvPr id="1197" name="Group 1067"/>
          <p:cNvGrpSpPr/>
          <p:nvPr/>
        </p:nvGrpSpPr>
        <p:grpSpPr>
          <a:xfrm>
            <a:off x="4469760" y="2590920"/>
            <a:ext cx="5128200" cy="3582720"/>
            <a:chOff x="4469760" y="2590920"/>
            <a:chExt cx="5128200" cy="3582720"/>
          </a:xfrm>
        </p:grpSpPr>
        <p:grpSp>
          <p:nvGrpSpPr>
            <p:cNvPr id="1198" name="Group 1064"/>
            <p:cNvGrpSpPr/>
            <p:nvPr/>
          </p:nvGrpSpPr>
          <p:grpSpPr>
            <a:xfrm>
              <a:off x="4572000" y="2590920"/>
              <a:ext cx="5025960" cy="3582720"/>
              <a:chOff x="4572000" y="2590920"/>
              <a:chExt cx="5025960" cy="3582720"/>
            </a:xfrm>
          </p:grpSpPr>
          <p:sp>
            <p:nvSpPr>
              <p:cNvPr id="1199" name="Text Box 1046"/>
              <p:cNvSpPr/>
              <p:nvPr/>
            </p:nvSpPr>
            <p:spPr>
              <a:xfrm>
                <a:off x="7696080" y="3886200"/>
                <a:ext cx="19018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D: New alley to original food source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grpSp>
            <p:nvGrpSpPr>
              <p:cNvPr id="1200" name="Group 1063"/>
              <p:cNvGrpSpPr/>
              <p:nvPr/>
            </p:nvGrpSpPr>
            <p:grpSpPr>
              <a:xfrm>
                <a:off x="4572000" y="2590920"/>
                <a:ext cx="3798720" cy="3582720"/>
                <a:chOff x="4572000" y="2590920"/>
                <a:chExt cx="3798720" cy="3582720"/>
              </a:xfrm>
            </p:grpSpPr>
            <p:grpSp>
              <p:nvGrpSpPr>
                <p:cNvPr id="1201" name="Group 1059"/>
                <p:cNvGrpSpPr/>
                <p:nvPr/>
              </p:nvGrpSpPr>
              <p:grpSpPr>
                <a:xfrm>
                  <a:off x="4572000" y="2590920"/>
                  <a:ext cx="3798720" cy="3352680"/>
                  <a:chOff x="4572000" y="2590920"/>
                  <a:chExt cx="3798720" cy="3352680"/>
                </a:xfrm>
              </p:grpSpPr>
              <p:sp>
                <p:nvSpPr>
                  <p:cNvPr id="1202" name="Oval 1038"/>
                  <p:cNvSpPr/>
                  <p:nvPr/>
                </p:nvSpPr>
                <p:spPr>
                  <a:xfrm>
                    <a:off x="4876560" y="4419720"/>
                    <a:ext cx="1447920" cy="1523880"/>
                  </a:xfrm>
                  <a:prstGeom prst="ellipse">
                    <a:avLst/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3" name="AutoShape 1040"/>
                  <p:cNvSpPr/>
                  <p:nvPr/>
                </p:nvSpPr>
                <p:spPr>
                  <a:xfrm rot="20100000">
                    <a:off x="4952520" y="3809880"/>
                    <a:ext cx="380880" cy="762120"/>
                  </a:xfrm>
                  <a:prstGeom prst="upArrow">
                    <a:avLst>
                      <a:gd name="adj1" fmla="val 46259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4" name="AutoShape 1041"/>
                  <p:cNvSpPr/>
                  <p:nvPr/>
                </p:nvSpPr>
                <p:spPr>
                  <a:xfrm rot="1500000">
                    <a:off x="5943600" y="38095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5" name="AutoShape 1042"/>
                  <p:cNvSpPr/>
                  <p:nvPr/>
                </p:nvSpPr>
                <p:spPr>
                  <a:xfrm>
                    <a:off x="5467320" y="37051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6" name="AutoShape 1043"/>
                  <p:cNvSpPr/>
                  <p:nvPr/>
                </p:nvSpPr>
                <p:spPr>
                  <a:xfrm rot="2700000">
                    <a:off x="6666840" y="3086280"/>
                    <a:ext cx="457200" cy="2057400"/>
                  </a:xfrm>
                  <a:prstGeom prst="upArrow">
                    <a:avLst>
                      <a:gd name="adj1" fmla="val 50000"/>
                      <a:gd name="adj2" fmla="val 11250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7" name="Text Box 1045"/>
                  <p:cNvSpPr/>
                  <p:nvPr/>
                </p:nvSpPr>
                <p:spPr>
                  <a:xfrm>
                    <a:off x="7209000" y="3352680"/>
                    <a:ext cx="11617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Food</a:t>
                    </a: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8" name="Text Box 1047"/>
                  <p:cNvSpPr/>
                  <p:nvPr/>
                </p:nvSpPr>
                <p:spPr>
                  <a:xfrm>
                    <a:off x="5505480" y="3276720"/>
                    <a:ext cx="326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A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9" name="Text Box 1048"/>
                  <p:cNvSpPr/>
                  <p:nvPr/>
                </p:nvSpPr>
                <p:spPr>
                  <a:xfrm>
                    <a:off x="6103080" y="3505320"/>
                    <a:ext cx="3254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C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10" name="Text Box 1049"/>
                  <p:cNvSpPr/>
                  <p:nvPr/>
                </p:nvSpPr>
                <p:spPr>
                  <a:xfrm>
                    <a:off x="4572000" y="3505320"/>
                    <a:ext cx="460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11" name="Text Box 1052"/>
                  <p:cNvSpPr/>
                  <p:nvPr/>
                </p:nvSpPr>
                <p:spPr>
                  <a:xfrm>
                    <a:off x="7465680" y="3048120"/>
                    <a:ext cx="3484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12" name="Line 1053"/>
                  <p:cNvSpPr/>
                  <p:nvPr/>
                </p:nvSpPr>
                <p:spPr>
                  <a:xfrm flipH="1" flipV="1">
                    <a:off x="7009920" y="4114800"/>
                    <a:ext cx="685800" cy="53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13" name="Text Box 1054"/>
                  <p:cNvSpPr/>
                  <p:nvPr/>
                </p:nvSpPr>
                <p:spPr>
                  <a:xfrm>
                    <a:off x="5140800" y="2590920"/>
                    <a:ext cx="10296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locke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14" name="Line 1056"/>
                  <p:cNvSpPr/>
                  <p:nvPr/>
                </p:nvSpPr>
                <p:spPr>
                  <a:xfrm>
                    <a:off x="5410080" y="2895480"/>
                    <a:ext cx="228600" cy="838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</p:grpSp>
            <p:sp>
              <p:nvSpPr>
                <p:cNvPr id="1215" name="Text Box 1061"/>
                <p:cNvSpPr/>
                <p:nvPr/>
              </p:nvSpPr>
              <p:spPr>
                <a:xfrm>
                  <a:off x="6210720" y="5653080"/>
                  <a:ext cx="1629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700"/>
                    </a:spcBef>
                    <a:buClr>
                      <a:srgbClr val="a3ce82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f210b"/>
                      </a:solidFill>
                      <a:latin typeface="Albertus Medium"/>
                    </a:rPr>
                    <a:t>Phase 2</a:t>
                  </a:r>
                  <a:endParaRPr b="0" lang="en-US" sz="2800" spc="-1" strike="noStrike">
                    <a:solidFill>
                      <a:srgbClr val="8f210b"/>
                    </a:solidFill>
                    <a:latin typeface="Albertus Medium"/>
                  </a:endParaRPr>
                </a:p>
              </p:txBody>
            </p:sp>
          </p:grpSp>
        </p:grpSp>
        <p:sp>
          <p:nvSpPr>
            <p:cNvPr id="1216" name="Text Box 1065"/>
            <p:cNvSpPr/>
            <p:nvPr/>
          </p:nvSpPr>
          <p:spPr>
            <a:xfrm>
              <a:off x="4469760" y="31860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7" name="Text Box 1066"/>
            <p:cNvSpPr/>
            <p:nvPr/>
          </p:nvSpPr>
          <p:spPr>
            <a:xfrm>
              <a:off x="5954040" y="32004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D0F64-DD76-47EE-8BBB-5F83D5604AB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Goodness of Fit Test by han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1280880" y="3123720"/>
            <a:ext cx="812628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olman, Ritchie and Kalish (1946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=(4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8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1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 = 9.2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e 95% percentile of the 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(3) distribution is 7.82 (from table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 &lt; 0.0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xact P = 0.026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499"/>
              </a:spcBef>
              <a:spcAft>
                <a:spcPts val="499"/>
              </a:spcAft>
              <a:buClr>
                <a:srgbClr val="a3dc96"/>
              </a:buClr>
              <a:buSzPct val="50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f210b"/>
                </a:solidFill>
                <a:latin typeface="Albertus Medium"/>
              </a:rPr>
              <a:t>Via MATLAB: 1-chi2cdf(9.25,3)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We reject the Null Hypothesis that Alleys are chosen equiprobably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223" name="Object 1030"/>
          <p:cNvGraphicFramePr/>
          <p:nvPr/>
        </p:nvGraphicFramePr>
        <p:xfrm>
          <a:off x="1733400" y="1981080"/>
          <a:ext cx="4125960" cy="248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24" name="Object 10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3400" y="1981080"/>
                    <a:ext cx="4125960" cy="24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63673-269D-4067-98F7-43C2D4B032E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lley’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1,2,3,4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hoices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4,5,8,1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30" name="Picture 1031" descr=""/>
          <p:cNvPicPr/>
          <p:nvPr/>
        </p:nvPicPr>
        <p:blipFill>
          <a:blip r:embed="rId1"/>
          <a:stretch/>
        </p:blipFill>
        <p:spPr>
          <a:xfrm>
            <a:off x="5694480" y="2133720"/>
            <a:ext cx="318744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5D756-9F1B-4EF4-A0BB-412985477AE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ive the alleys lab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1 = ‘A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2 = ‘B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36" name="Picture 5" descr=""/>
          <p:cNvPicPr/>
          <p:nvPr/>
        </p:nvPicPr>
        <p:blipFill>
          <a:blip r:embed="rId1"/>
          <a:stretch/>
        </p:blipFill>
        <p:spPr>
          <a:xfrm>
            <a:off x="6024600" y="2209680"/>
            <a:ext cx="2701800" cy="12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112B2-99BC-4198-9898-BC0AE06ABA2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The Naming of P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ategorical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requency Tab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Goodness-of-Fit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Distribu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Binomial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test for associ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son, Cohen and McNema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8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9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2C0B0-AB5B-49BD-8C9B-8F7D7E0D102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choices’ as this contains the frequency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42" name="Picture 1030" descr=""/>
          <p:cNvPicPr/>
          <p:nvPr/>
        </p:nvPicPr>
        <p:blipFill>
          <a:blip r:embed="rId1"/>
          <a:stretch/>
        </p:blipFill>
        <p:spPr>
          <a:xfrm>
            <a:off x="5364000" y="2514600"/>
            <a:ext cx="397044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4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5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44A1C-E8CE-42F0-A673-29E6CD4D8F1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hi-squar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hypothetical probabiliti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 the expected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48" name="Picture 5" descr=""/>
          <p:cNvPicPr/>
          <p:nvPr/>
        </p:nvPicPr>
        <p:blipFill>
          <a:blip r:embed="rId1"/>
          <a:stretch/>
        </p:blipFill>
        <p:spPr>
          <a:xfrm>
            <a:off x="4951440" y="1371600"/>
            <a:ext cx="4019400" cy="2327400"/>
          </a:xfrm>
          <a:prstGeom prst="rect">
            <a:avLst/>
          </a:prstGeom>
          <a:ln w="0">
            <a:noFill/>
          </a:ln>
        </p:spPr>
      </p:pic>
      <p:pic>
        <p:nvPicPr>
          <p:cNvPr id="1249" name="Picture 6" descr=""/>
          <p:cNvPicPr/>
          <p:nvPr/>
        </p:nvPicPr>
        <p:blipFill>
          <a:blip r:embed="rId2"/>
          <a:stretch/>
        </p:blipFill>
        <p:spPr>
          <a:xfrm>
            <a:off x="4648320" y="3429000"/>
            <a:ext cx="501336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1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2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41A00-288D-4C61-A161-C2F45CA7435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from Chi-Square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54" name="Rectangle 4"/>
          <p:cNvSpPr/>
          <p:nvPr/>
        </p:nvSpPr>
        <p:spPr>
          <a:xfrm>
            <a:off x="2313360" y="1981080"/>
            <a:ext cx="25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-Square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55" name="Picture 5" descr=""/>
          <p:cNvPicPr/>
          <p:nvPr/>
        </p:nvPicPr>
        <p:blipFill>
          <a:blip r:embed="rId1"/>
          <a:stretch/>
        </p:blipFill>
        <p:spPr>
          <a:xfrm>
            <a:off x="2394000" y="2590920"/>
            <a:ext cx="3870360" cy="1636560"/>
          </a:xfrm>
          <a:prstGeom prst="rect">
            <a:avLst/>
          </a:prstGeom>
          <a:ln w="0">
            <a:noFill/>
          </a:ln>
        </p:spPr>
      </p:pic>
      <p:pic>
        <p:nvPicPr>
          <p:cNvPr id="1256" name="Picture 6" descr=""/>
          <p:cNvPicPr/>
          <p:nvPr/>
        </p:nvPicPr>
        <p:blipFill>
          <a:blip r:embed="rId2"/>
          <a:stretch/>
        </p:blipFill>
        <p:spPr>
          <a:xfrm>
            <a:off x="2394000" y="4419720"/>
            <a:ext cx="3662280" cy="14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8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9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F8689-0D35-432E-B1BA-5BE5245DDFA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(</a:t>
            </a:r>
            <a:r>
              <a:rPr b="0" lang="en-US" sz="4400" spc="-1" strike="noStrike">
                <a:solidFill>
                  <a:srgbClr val="515f7b"/>
                </a:solidFill>
                <a:latin typeface="Symbol"/>
                <a:ea typeface="Symbol"/>
              </a:rPr>
              <a:t></a:t>
            </a:r>
            <a:r>
              <a:rPr b="0" lang="en-US" sz="4000" spc="-1" strike="noStrike" baseline="38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) Distribution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61" name="Picture 7" descr="chisquared"/>
          <p:cNvPicPr/>
          <p:nvPr/>
        </p:nvPicPr>
        <p:blipFill>
          <a:blip r:embed="rId1"/>
          <a:stretch/>
        </p:blipFill>
        <p:spPr>
          <a:xfrm>
            <a:off x="4703760" y="2057400"/>
            <a:ext cx="5010120" cy="3429000"/>
          </a:xfrm>
          <a:prstGeom prst="rect">
            <a:avLst/>
          </a:prstGeom>
          <a:ln w="0">
            <a:noFill/>
          </a:ln>
        </p:spPr>
      </p:pic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hape determined by ‘degrees of freedom’ (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J-shaped for df = 1 or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nimodal for df &gt;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ode = df - 2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 = df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FB60B-FC79-40EB-97F9-02FD01FB39B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 performance and 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a multiple choice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-alternative forced choice (2AF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p(error) =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AFC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0.25, p(error) = 0.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as the subject just guessing when she got 14/20 in a 2AFC tes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EDA9B-25DE-430B-B7B3-F7D39C88734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12920" y="213372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Binomial Tes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73" name="Picture 5" descr=""/>
          <p:cNvPicPr/>
          <p:nvPr/>
        </p:nvPicPr>
        <p:blipFill>
          <a:blip r:embed="rId1"/>
          <a:stretch/>
        </p:blipFill>
        <p:spPr>
          <a:xfrm>
            <a:off x="4869000" y="2590920"/>
            <a:ext cx="439416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5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6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DEB27-436F-4FF8-9D45-F05140493B2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of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78" name="Picture 3" descr=""/>
          <p:cNvPicPr/>
          <p:nvPr/>
        </p:nvPicPr>
        <p:blipFill>
          <a:blip r:embed="rId1"/>
          <a:stretch/>
        </p:blipFill>
        <p:spPr>
          <a:xfrm>
            <a:off x="2228760" y="2133720"/>
            <a:ext cx="6297840" cy="1261800"/>
          </a:xfrm>
          <a:prstGeom prst="rect">
            <a:avLst/>
          </a:prstGeom>
          <a:ln w="0">
            <a:noFill/>
          </a:ln>
        </p:spPr>
      </p:pic>
      <p:sp>
        <p:nvSpPr>
          <p:cNvPr id="1279" name="Text Box 4"/>
          <p:cNvSpPr/>
          <p:nvPr/>
        </p:nvSpPr>
        <p:spPr>
          <a:xfrm>
            <a:off x="1303200" y="3952800"/>
            <a:ext cx="7691400" cy="23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data (14/20) are consistent with chance performanc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nfidence interval approach can be a more informative altern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1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2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052AA-2158-4C30-B704-C9D47E73B6B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fidence Intervals for Binomial Proportion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4" name="Text Box 4"/>
          <p:cNvSpPr/>
          <p:nvPr/>
        </p:nvSpPr>
        <p:spPr>
          <a:xfrm>
            <a:off x="907920" y="2438280"/>
            <a:ext cx="76914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X=14, N=20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ALD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99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901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ILSON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81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855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Consistent with the P values, the Confidence Interval only </a:t>
            </a:r>
            <a:r>
              <a:rPr b="1" i="1" lang="en-US" sz="2000" spc="-1" strike="noStrike">
                <a:solidFill>
                  <a:srgbClr val="000000"/>
                </a:solidFill>
                <a:latin typeface="Albertus Medium"/>
              </a:rPr>
              <a:t>just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 includes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(Calculated using a spreadsheet available on the CBU statistics website at </a:t>
            </a:r>
            <a:r>
              <a:rPr b="1" lang="en-US" sz="1600" spc="-1" strike="noStrike" u="sng">
                <a:solidFill>
                  <a:srgbClr val="a3ce82"/>
                </a:solidFill>
                <a:uFillTx/>
                <a:latin typeface="Times New Roman"/>
                <a:hlinkClick r:id="rId1"/>
              </a:rPr>
              <a:t>http://imaging.mrc-cbu.cam.ac.uk/statswiki/FAQ/BinomialConfidence</a:t>
            </a: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. which also features a similar solution to the difference in two (in)dependent propor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6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7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84E6C-6DFF-4385-9C1A-CE317753836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oah’s Ark, </a:t>
            </a: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or The World of Two by Two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arson’s Chi-square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ates’ Continuity Correc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sher’s Exact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dds and Odds Ratio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log odds and log odds ratio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nsitivity and Specific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erd Gigerenzer (2002).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Reckoning with Risk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Pengui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ignal Detection The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90" name="Picture 6" descr=""/>
          <p:cNvPicPr/>
          <p:nvPr/>
        </p:nvPicPr>
        <p:blipFill>
          <a:blip r:embed="rId1"/>
          <a:stretch/>
        </p:blipFill>
        <p:spPr>
          <a:xfrm>
            <a:off x="7467480" y="2743200"/>
            <a:ext cx="1197000" cy="18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2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3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4852F-5E84-4044-8E0B-60DA87EB683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al Detection Theor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95" name="Picture 3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3921120" cy="2654280"/>
          </a:xfrm>
          <a:prstGeom prst="rect">
            <a:avLst/>
          </a:prstGeom>
          <a:ln w="0">
            <a:noFill/>
          </a:ln>
        </p:spPr>
      </p:pic>
      <p:sp>
        <p:nvSpPr>
          <p:cNvPr id="1296" name="Text Box 4"/>
          <p:cNvSpPr/>
          <p:nvPr/>
        </p:nvSpPr>
        <p:spPr>
          <a:xfrm>
            <a:off x="457200" y="259092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Example 2a from Macmillan &amp; Creelman, 1991, p.3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97" name="Picture 5" descr=""/>
          <p:cNvPicPr/>
          <p:nvPr/>
        </p:nvPicPr>
        <p:blipFill>
          <a:blip r:embed="rId2"/>
          <a:stretch/>
        </p:blipFill>
        <p:spPr>
          <a:xfrm>
            <a:off x="1905120" y="4724280"/>
            <a:ext cx="3665520" cy="13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57F9A-4D3F-4DB1-B815-DF3BBEADAA2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PSS procedures that help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information about one classification at a tim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ROSSTAB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bined information about more than one classifica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HI-SQUA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paring observed frequencies with hypothetical on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BINOMI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testing whether performance differs from ‘chance’ </a:t>
            </a:r>
            <a:r>
              <a:rPr b="0" i="1" lang="en-US" sz="1400" spc="-1" strike="noStrike">
                <a:solidFill>
                  <a:srgbClr val="8f210b"/>
                </a:solidFill>
                <a:latin typeface="Albertus Medium"/>
              </a:rPr>
              <a:t>(whatever that is)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BEF67-BBCF-4D93-8904-CE3C31B4C67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ensitivity and Specificit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esting for the presence of a Disease in a person from a popul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nsitivity: Probability that a Positive result means when the Disease is present - P(+|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ecificity: Probability that a person who tests Positive has the Disease – P(D|+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nfluenced by the Prevalence of the Disease in the population: P(D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See Martin Bland: An Introduction to Medical Statistic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ay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237BF-D4D0-435C-B385-831330C838E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08" name="Object 0"/>
          <p:cNvGraphicFramePr/>
          <p:nvPr/>
        </p:nvGraphicFramePr>
        <p:xfrm>
          <a:off x="3135240" y="2895480"/>
          <a:ext cx="4656240" cy="263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9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5240" y="2895480"/>
                    <a:ext cx="4656240" cy="26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0" name="Text Box 5"/>
          <p:cNvSpPr/>
          <p:nvPr/>
        </p:nvSpPr>
        <p:spPr>
          <a:xfrm>
            <a:off x="1403280" y="510552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New treatment is positively associated with recovery (Recovery rate 10.6% vs 4.8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FC020-B4F2-4ECA-9F6B-E264708A15A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16" name="Object 4"/>
          <p:cNvGraphicFramePr/>
          <p:nvPr/>
        </p:nvGraphicFramePr>
        <p:xfrm>
          <a:off x="3500280" y="2898720"/>
          <a:ext cx="4884840" cy="262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0280" y="2898720"/>
                    <a:ext cx="4884840" cy="26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8" name="Text Box 5"/>
          <p:cNvSpPr/>
          <p:nvPr/>
        </p:nvSpPr>
        <p:spPr>
          <a:xfrm>
            <a:off x="1403280" y="5181480"/>
            <a:ext cx="8155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gain, the New treatment is positively associated with recovery (Recovery rate 98.8% vs 67.2%)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0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1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E412E-2AB9-4764-8532-14CB76BC588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bined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24" name="Object 4"/>
          <p:cNvGraphicFramePr/>
          <p:nvPr/>
        </p:nvGraphicFramePr>
        <p:xfrm>
          <a:off x="4381560" y="2819520"/>
          <a:ext cx="4113000" cy="311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560" y="2819520"/>
                    <a:ext cx="4113000" cy="31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6" name="Text Box 5"/>
          <p:cNvSpPr/>
          <p:nvPr/>
        </p:nvSpPr>
        <p:spPr>
          <a:xfrm>
            <a:off x="1403280" y="518148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en combined, the New treatment is negatively associated with recovery (Recovery rate 35.8% vs 57.9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6DD74-D978-4A1E-8AD0-9ADD8EF7D4F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impson’s Paradox explaine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331" name="Object 5"/>
          <p:cNvGraphicFramePr/>
          <p:nvPr/>
        </p:nvGraphicFramePr>
        <p:xfrm>
          <a:off x="343080" y="2133720"/>
          <a:ext cx="5016240" cy="381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3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2133720"/>
                    <a:ext cx="501624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3" name="Text Box 7"/>
          <p:cNvSpPr/>
          <p:nvPr/>
        </p:nvSpPr>
        <p:spPr>
          <a:xfrm>
            <a:off x="5599080" y="2637000"/>
            <a:ext cx="396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end points of the in-between line are differently weighted averages of the end points of the upper and lower lin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A8F70-9306-48EF-A4B5-B541F759F44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agreemen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Kapp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judges rate items on the same categorical sca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ow well do they agre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Crosstabs with two classifying variable having the sam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Kappa under the Statistics op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imaging.mrc-cbu.cam.ac.uk/statswiki/FAQ/kapp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Alternative kappa (Brennan and Prediger, 198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0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1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2597E-6385-4248-9576-30403139CEC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1568520" y="4038480"/>
            <a:ext cx="73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% Agreement is 21/30 = 70% but could be high due to cha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44" name="Picture 5" descr=""/>
          <p:cNvPicPr/>
          <p:nvPr/>
        </p:nvPicPr>
        <p:blipFill>
          <a:blip r:embed="rId1"/>
          <a:stretch/>
        </p:blipFill>
        <p:spPr>
          <a:xfrm>
            <a:off x="3135240" y="2057400"/>
            <a:ext cx="4127400" cy="1490760"/>
          </a:xfrm>
          <a:prstGeom prst="rect">
            <a:avLst/>
          </a:prstGeom>
          <a:ln w="0">
            <a:noFill/>
          </a:ln>
        </p:spPr>
      </p:pic>
      <p:sp>
        <p:nvSpPr>
          <p:cNvPr id="1345" name="Oval 6"/>
          <p:cNvSpPr/>
          <p:nvPr/>
        </p:nvSpPr>
        <p:spPr>
          <a:xfrm>
            <a:off x="8915400" y="1219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6" name="Oval 7"/>
          <p:cNvSpPr/>
          <p:nvPr/>
        </p:nvSpPr>
        <p:spPr>
          <a:xfrm>
            <a:off x="5045040" y="28432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7" name="Oval 8"/>
          <p:cNvSpPr/>
          <p:nvPr/>
        </p:nvSpPr>
        <p:spPr>
          <a:xfrm>
            <a:off x="5646600" y="298764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8" name="Oval 9"/>
          <p:cNvSpPr/>
          <p:nvPr/>
        </p:nvSpPr>
        <p:spPr>
          <a:xfrm>
            <a:off x="6248520" y="3124080"/>
            <a:ext cx="152280" cy="1526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0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1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F1C03-ECB7-4364-B238-26AE2C58A16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-corrected 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353" name="Picture 6" descr=""/>
          <p:cNvPicPr/>
          <p:nvPr/>
        </p:nvPicPr>
        <p:blipFill>
          <a:blip r:embed="rId1"/>
          <a:stretch/>
        </p:blipFill>
        <p:spPr>
          <a:xfrm>
            <a:off x="1981080" y="2819520"/>
            <a:ext cx="5305680" cy="1360440"/>
          </a:xfrm>
          <a:prstGeom prst="rect">
            <a:avLst/>
          </a:prstGeom>
          <a:ln w="0">
            <a:noFill/>
          </a:ln>
        </p:spPr>
      </p:pic>
      <p:sp>
        <p:nvSpPr>
          <p:cNvPr id="1354" name="Text Box 7"/>
          <p:cNvSpPr/>
          <p:nvPr/>
        </p:nvSpPr>
        <p:spPr>
          <a:xfrm>
            <a:off x="495360" y="4876920"/>
            <a:ext cx="818676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ohen’s Kappa (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= 0.473) is chance-corrected: 47.3%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reement between the judges is well above chance, but is it good enough?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6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7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79D04-A386-4559-8459-8EA9EDF3082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chang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1320840" y="1980720"/>
            <a:ext cx="841680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patient with acquired dyslexia does a 40 item picture naming task twice at a 6 month interv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0" name="Rectangle 5"/>
          <p:cNvSpPr/>
          <p:nvPr/>
        </p:nvSpPr>
        <p:spPr>
          <a:xfrm>
            <a:off x="1403280" y="4836960"/>
            <a:ext cx="8417160" cy="14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ccuracy falls from 19/40 to 11/4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s this a real deterioration, noting that 28/40 items show no change across the two test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61" name="Picture 6" descr=""/>
          <p:cNvPicPr/>
          <p:nvPr/>
        </p:nvPicPr>
        <p:blipFill>
          <a:blip r:embed="rId1"/>
          <a:stretch/>
        </p:blipFill>
        <p:spPr>
          <a:xfrm>
            <a:off x="3382920" y="3352680"/>
            <a:ext cx="3565440" cy="1463760"/>
          </a:xfrm>
          <a:prstGeom prst="rect">
            <a:avLst/>
          </a:prstGeom>
          <a:ln w="0">
            <a:noFill/>
          </a:ln>
        </p:spPr>
      </p:pic>
      <p:sp>
        <p:nvSpPr>
          <p:cNvPr id="1362" name="Oval 7"/>
          <p:cNvSpPr/>
          <p:nvPr/>
        </p:nvSpPr>
        <p:spPr>
          <a:xfrm>
            <a:off x="5073480" y="417528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3" name="Oval 8"/>
          <p:cNvSpPr/>
          <p:nvPr/>
        </p:nvSpPr>
        <p:spPr>
          <a:xfrm>
            <a:off x="5765760" y="43354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899C9-CA98-43B8-A090-2872E504E4D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4825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is is specifically designed for this type of hypothesi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quivalent to a Binomial Test (with p=0.5) of Freq(Correct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rror) vs. Freq(Error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Correct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In this case 10 vs. 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69" name="Picture 4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3951360" cy="2838240"/>
          </a:xfrm>
          <a:prstGeom prst="rect">
            <a:avLst/>
          </a:prstGeom>
          <a:ln w="0">
            <a:noFill/>
          </a:ln>
        </p:spPr>
      </p:pic>
      <p:pic>
        <p:nvPicPr>
          <p:cNvPr id="1370" name="Picture 5" descr=""/>
          <p:cNvPicPr/>
          <p:nvPr/>
        </p:nvPicPr>
        <p:blipFill>
          <a:blip r:embed="rId2"/>
          <a:stretch/>
        </p:blipFill>
        <p:spPr>
          <a:xfrm>
            <a:off x="1066680" y="4191120"/>
            <a:ext cx="3565800" cy="1463400"/>
          </a:xfrm>
          <a:prstGeom prst="rect">
            <a:avLst/>
          </a:prstGeom>
          <a:ln w="0">
            <a:noFill/>
          </a:ln>
        </p:spPr>
      </p:pic>
      <p:sp>
        <p:nvSpPr>
          <p:cNvPr id="1371" name="Oval 7"/>
          <p:cNvSpPr/>
          <p:nvPr/>
        </p:nvSpPr>
        <p:spPr>
          <a:xfrm>
            <a:off x="3405240" y="49687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2" name="Oval 8"/>
          <p:cNvSpPr/>
          <p:nvPr/>
        </p:nvSpPr>
        <p:spPr>
          <a:xfrm>
            <a:off x="2717640" y="51325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94D12-2828-4129-B8E2-795DE3F615E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nt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umerical measurements or cou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ntinuous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Reaction time, BOLD signal, EEG signal,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iscrete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ole numbers, like numbers of errors, marks in an exam …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72187-A3CE-4B02-B7CC-69F0F6C7C10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412560" y="1981080"/>
            <a:ext cx="482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this case we can assert that there is evidence of deterior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78" name="Picture 6" descr=""/>
          <p:cNvPicPr/>
          <p:nvPr/>
        </p:nvPicPr>
        <p:blipFill>
          <a:blip r:embed="rId1"/>
          <a:stretch/>
        </p:blipFill>
        <p:spPr>
          <a:xfrm>
            <a:off x="5281560" y="2057400"/>
            <a:ext cx="4446720" cy="1289160"/>
          </a:xfrm>
          <a:prstGeom prst="rect">
            <a:avLst/>
          </a:prstGeom>
          <a:ln w="0">
            <a:noFill/>
          </a:ln>
        </p:spPr>
      </p:pic>
      <p:sp>
        <p:nvSpPr>
          <p:cNvPr id="1379" name="Rectangle 7"/>
          <p:cNvSpPr/>
          <p:nvPr/>
        </p:nvSpPr>
        <p:spPr>
          <a:xfrm>
            <a:off x="271440" y="4076640"/>
            <a:ext cx="861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obtain confidence intervals for the difference in proportions: http://imaging.mrc-cbu.cam.ac.uk/statswiki/FAQ/BinomialConfidence/2gp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F153A-BFA1-4BA0-AF1B-8FF2DF70126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hi-squared test of associ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paring two or more classified sampl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esting whether the frequencies for one classification depend on the category of another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nly to be used when the numbers in the cells are frequencies, never with proportions, percentages or measureme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785F3-53DF-4374-AF00-D82894D6238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412920" y="22096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s Side of Lesion associated with Sex of Patien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Frequencies and then ‘Chi-square’ and ‘Phi’ under Statistics, and  ‘Exact’ under Exact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90" name="Picture 5" descr=""/>
          <p:cNvPicPr/>
          <p:nvPr/>
        </p:nvPicPr>
        <p:blipFill>
          <a:blip r:embed="rId1"/>
          <a:stretch/>
        </p:blipFill>
        <p:spPr>
          <a:xfrm>
            <a:off x="4869000" y="2286000"/>
            <a:ext cx="495144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DEA58-F39E-41F7-B8D9-FC932C05EF9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Output ...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329760" y="3962160"/>
            <a:ext cx="41259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any above-chance association between Sex and Side of Les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96" name="Picture 5" descr=""/>
          <p:cNvPicPr/>
          <p:nvPr/>
        </p:nvPicPr>
        <p:blipFill>
          <a:blip r:embed="rId1"/>
          <a:stretch/>
        </p:blipFill>
        <p:spPr>
          <a:xfrm>
            <a:off x="3630600" y="1905120"/>
            <a:ext cx="6083280" cy="2157120"/>
          </a:xfrm>
          <a:prstGeom prst="rect">
            <a:avLst/>
          </a:prstGeom>
          <a:ln w="0">
            <a:noFill/>
          </a:ln>
        </p:spPr>
      </p:pic>
      <p:pic>
        <p:nvPicPr>
          <p:cNvPr id="1397" name="Picture 6" descr=""/>
          <p:cNvPicPr/>
          <p:nvPr/>
        </p:nvPicPr>
        <p:blipFill>
          <a:blip r:embed="rId2"/>
          <a:stretch/>
        </p:blipFill>
        <p:spPr>
          <a:xfrm>
            <a:off x="4621320" y="4114800"/>
            <a:ext cx="4811760" cy="1646280"/>
          </a:xfrm>
          <a:prstGeom prst="rect">
            <a:avLst/>
          </a:prstGeom>
          <a:ln w="0">
            <a:noFill/>
          </a:ln>
        </p:spPr>
      </p:pic>
      <p:sp>
        <p:nvSpPr>
          <p:cNvPr id="1398" name="Rectangle 7"/>
          <p:cNvSpPr/>
          <p:nvPr/>
        </p:nvSpPr>
        <p:spPr>
          <a:xfrm>
            <a:off x="382680" y="5734080"/>
            <a:ext cx="9007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derive confidence intervals for difference in proportio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inomialConfidence/2g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0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1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C1E2B-6940-46F5-A14C-D3C1A9E62E6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Larger tabl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wo way tables can be analysed the same wa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ree- (or more)  way classifications need a more analytical approach such as Log Linear Modelling, available with the Loglinear procedure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AAF6C-FDF4-4385-B56D-FFFC303EC04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 3 x 3 Examp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08" name="Picture 5" descr=""/>
          <p:cNvPicPr/>
          <p:nvPr/>
        </p:nvPicPr>
        <p:blipFill>
          <a:blip r:embed="rId1"/>
          <a:stretch/>
        </p:blipFill>
        <p:spPr>
          <a:xfrm>
            <a:off x="247680" y="1981080"/>
            <a:ext cx="5010120" cy="1636920"/>
          </a:xfrm>
          <a:prstGeom prst="rect">
            <a:avLst/>
          </a:prstGeom>
          <a:ln w="0">
            <a:noFill/>
          </a:ln>
        </p:spPr>
      </p:pic>
      <p:pic>
        <p:nvPicPr>
          <p:cNvPr id="1409" name="Picture 6" descr=""/>
          <p:cNvPicPr/>
          <p:nvPr/>
        </p:nvPicPr>
        <p:blipFill>
          <a:blip r:embed="rId2"/>
          <a:stretch/>
        </p:blipFill>
        <p:spPr>
          <a:xfrm>
            <a:off x="5199120" y="2057400"/>
            <a:ext cx="3960720" cy="1920960"/>
          </a:xfrm>
          <a:prstGeom prst="rect">
            <a:avLst/>
          </a:prstGeom>
          <a:ln w="0">
            <a:noFill/>
          </a:ln>
        </p:spPr>
      </p:pic>
      <p:pic>
        <p:nvPicPr>
          <p:cNvPr id="1410" name="Picture 7" descr=""/>
          <p:cNvPicPr/>
          <p:nvPr/>
        </p:nvPicPr>
        <p:blipFill>
          <a:blip r:embed="rId3"/>
          <a:stretch/>
        </p:blipFill>
        <p:spPr>
          <a:xfrm>
            <a:off x="2146320" y="4267080"/>
            <a:ext cx="465300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C5FCB-5B4E-4CA4-AFB4-ECC68C6AA6C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ooling of data can mislead, or even violate the assumptions of the tests (cf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imp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ach individual observation is supposed to be independent of the othe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 pooling multiple observations across a group of subjects will typically violate this rul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needs to be handled using either summary measures (e.g. Log Odds), Generalised Linear Mixed Models or Matched Pairs: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MatchedPai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7DEBD-0D11-4D0D-BA0B-830FC1BF819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is conventional to be cautious if there are low  Expected values in any cell (e.g. E&lt;5)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research suggest this is overcautious, though use of Fisher’s Exact Test is recommended in the general case. Campbell (2007) however suggests (N-1/N) x chi-square for 2x2 tables with Expected Values &gt; 1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lternatively one can amalgamate across two or more categori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15833-0CD8-485B-B66B-DF7ED8D6D40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ext week at 11am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OVA of balanced multi-factorial designs: between subject designs, and single subject studies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                                                                                             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4E3E0-93D7-4472-A4B4-8B07DC451ED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l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dinal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E3744-569B-41E7-9A88-78C1254DDFB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ominal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descriptive lab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utcome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rror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orrect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x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Fe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7C931-FA05-4524-878C-43E04C34882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From ICD-10: Chapter V: Mental and behavioural disorders</a:t>
            </a:r>
            <a:br>
              <a:rPr sz="2000"/>
            </a:br>
            <a:r>
              <a:rPr b="0" lang="en-US" sz="1400" spc="-1" strike="noStrike">
                <a:solidFill>
                  <a:srgbClr val="515f7b"/>
                </a:solidFill>
                <a:latin typeface="Albertus Medium"/>
              </a:rPr>
              <a:t>(International Statistical Classification of Diseases and Related Health Problems)</a:t>
            </a:r>
            <a:endParaRPr b="0" lang="en-US" sz="1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34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00-F99 - Mental and behaviour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-F09) Organic, including symptomatic, ment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.) Dementia in Alzheimer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) Vascular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1) Multi-infarct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) Dementia in other diseases classified elsewher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0) Dementia in Pick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1) Dementia in Creutzfeldt-Jakob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2) Dementia in Huntingt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3) Dementia in Parkins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4) Dementia in human immunodeficiency virus (HIV)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3.) Unspecified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4.) Organic amnesic syndrome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5.) Delirium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6.) Other mental disorders due to brain damage and dysfunction and to physical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7.) Personality and behavioural disorders due to brain disease, damage and dysfunc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9.) Unspecified organic or symptomatic mental disorder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47143-964A-4C6E-B262-58EA8263B97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rdinal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ranged in an ord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ating scal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ndorsement of a statement: {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Neutral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Dis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disagre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g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e Group: {20+ to 30, 30+ to 40, 40+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osi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Birth order: {1st, 2nd, 3rd, 4th, ...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arget position: {Left, Central, Right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rial block: {1st, 2nd, 3rd, …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4-10-20T13:39:49Z</cp:lastPrinted>
  <dcterms:modified xsi:type="dcterms:W3CDTF">2016-05-03T14:47:15Z</dcterms:modified>
  <cp:revision>108</cp:revision>
  <dc:subject/>
  <dc:title>Aims and Objectives</dc:title>
</cp:coreProperties>
</file>